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4674-05C6-48CD-9508-756A4E5F8F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C87-2032-40A6-9CB9-4CF201EF64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1648-6796-43A1-9B83-F5E0B5D2B9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ADB9-1387-4F02-BC9C-F1FD7A5DFE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909C-4F9D-422D-B1BF-5FF9859D61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83BE-80CD-4A4A-B32E-919B95653E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2180-BE07-496D-9F42-56E844666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C617-E9C9-4FCA-85BE-C78B60E1C3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8404-F60B-48B8-9F43-68305AF28B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957D-B698-43A1-9FA8-4C89115CD2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BE81-8CE0-4EE2-BDEA-A5B0BD81B1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F578-F8AF-46DA-8AC9-250AC0DC1B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5A93-BBF5-4703-BCB0-56427F3C57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E36E-0D80-4B48-BB2D-E4C3CC11B2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20DB-C9B9-41C0-A051-95053C7CB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97CF-F4F4-48D2-A754-F5BC75E429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B046-6473-40ED-83CF-D00DA6CBC7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7D30-8D9E-4928-9DFE-56665B6B79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9DD2-FC73-425B-AA78-BDFEDB0A2F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CBB6-C190-4D33-9A1A-0049E898BF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E4B5-3D5B-4B2A-B492-AE7E5E3E58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27F4-1F22-42B7-9159-E1D62B8F9B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C4E8-F507-4BEC-8EC0-6DAE211499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6F8C-9805-4FD5-8E53-CB4ED10BE2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A2B-0139-4EF3-8663-6E7CF94F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5F7-898A-4BB0-B010-9C9FC35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9F1-D5E4-45BC-9A42-25839728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F29-089C-4FC5-9090-4A8B4257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A13-3DBD-4567-A579-519F7D89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5D6-2E52-48B0-900D-9EDA1F4D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EF9-4216-41A9-8D2B-740B39F6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7C1-C360-4C26-A53D-1F309762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CC8-C379-4319-9489-A41B2713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AAD-FB99-46B7-B7FB-70B7E7C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D09-5299-4EA5-BD58-AB04027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E13-A05A-4A4C-A545-EDB0F0F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B5C0-989D-4842-AB97-7E63F1878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Preferred Customer</cp:lastModifiedBy>
  <dcterms:modified xsi:type="dcterms:W3CDTF">2010-02-01T13:30:30Z</dcterms:modified>
  <cp:revision>4</cp:revision>
  <dc:subject/>
  <dc:title>Genetic Traits</dc:title>
</cp:coreProperties>
</file>